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EC9-494F-4F8C-AB9F-F7C998F7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FD1-7C6D-4367-A0CF-FEA18D9D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29E-3182-4CB4-9148-028F42D85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C3D-2E96-4B70-A0BF-B890A2FC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7BB-8EC7-488D-8A05-E97EFAC4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335-1817-4AAC-A329-209F434D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8C5-BD27-4275-949C-6F3A7066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C1D-DE26-4A4E-AFC3-A8D556D2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5F6-4FBF-4A52-90F9-9BB2A0FB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A9F-F1E0-479F-A018-CE4C4549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11E-7BE7-403B-A1EA-80C8843F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9F6-6F43-4192-8F32-3FAAC758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F4D8-50E9-42BC-9F25-45901906F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GPT ending 1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rough your Son,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your holy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honour and glory are your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ow and for ev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0:13:10Z</dcterms:created>
  <dc:creator>Anon Anon</dc:creator>
  <dc:description/>
  <dc:language>en-US</dc:language>
  <cp:lastModifiedBy>Anon Anon</cp:lastModifiedBy>
  <dcterms:modified xsi:type="dcterms:W3CDTF">2005-08-09T05:25:22Z</dcterms:modified>
  <cp:revision>11</cp:revision>
  <dc:subject/>
  <dc:title>PowerPoint Presentation</dc:title>
</cp:coreProperties>
</file>